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DA1-B698-4FE1-8CA5-90C71D93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488-8D59-43D5-816C-11FF1619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8EB08-BE93-42E7-B420-F83FAD0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FF9B5-BBD0-441C-B3CB-903A354B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0EF1E-2856-4287-BC7D-5A641EE5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1D368-6B79-4B05-BEE5-4DD558E6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3F289-EDFF-4C94-8D18-68562DD6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A7ABE-1A67-4C94-9C68-B4F4071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21B6E-5F9D-43BC-A54B-C25FFE5E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5DE20-33CE-41A1-95E8-FD86B0C0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5324E-09A0-4912-BBC4-673CD6D1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3C4E3-E526-4300-A2AA-F3AE1005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A88-AEC2-41D4-94C1-0669385A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7FB5C-7B60-4298-8DCC-EA186AC1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154A4-52C6-4989-8582-D24A664C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7FAF1-4357-4175-A961-DB60047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8EB0D-2983-4526-BF10-B6CFF023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A3B57-B6C9-437A-BB17-944507D0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30BE7-2DBE-4C20-AD42-535555D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17D85-1F3F-4FEE-A9B7-BD70B7C6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B5C2F-A988-4853-A076-A8427B4A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FCA42-DCD4-4980-975C-2D897A1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CD200-E1CF-40A2-BBCC-9806518A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C0C-022A-41B9-94FF-DA21A9D8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43D38-7934-4C5A-BCE9-DDC0811D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6EE38-884D-4799-B4DA-1B400F62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C70F1-7D36-46EB-9ACA-119CBC2B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7A36A-84C6-4585-B7FE-6D1A2612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213ED-6164-492A-B2FD-BADDC490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465A3-12E9-488A-B72D-9586A56E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94518-8D9C-4078-B291-9C0AF47C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0C2EE-24A3-4B03-AD0A-FCD68534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DC372-ACF5-4914-826E-6AC8745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7A31A-E9FC-4589-8DF7-A69670D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0B0B-1596-4B95-B8A9-2A396990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F3D25-B7A7-4C32-A102-46BEE136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B4CB5-2E0C-4D37-9336-B9C6692B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061E1-EC1E-4D1F-A6F2-F5A03AAB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A34E4-C7A7-40F7-96FD-8033CFF8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4A55F-7DFA-4FCD-B214-8574A147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FAEFA-2FF3-42E1-9F1E-6E47BBEF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81FDA-61A9-40D8-90FE-7D73B487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DF988-EA01-492B-8690-93DDC7FB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73B77-65DC-4A83-BB78-27F9EE92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2600B-2E95-43FF-A047-2324EC58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FAB0-8316-4898-9E82-ED30796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ABA68-FC35-486C-968D-CC8A3B96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52B74-F295-42CF-AA2C-9C4DC21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8DC34-F39D-4B4F-9CA8-C569E966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3CE2B-23A7-4BCE-B459-143867CD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361E0-153C-4F8D-95A8-4B6EEC03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50ACB-CB7E-4D77-BC9F-B8D601B9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4258F-05DA-4D17-B1D4-2650EBD7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89AE9-BC36-4A4F-A983-69B1937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7DC9A-C317-4B06-8BCF-39B6194E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91E9D-614C-46CF-A5FB-48D21DBF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3B7B-86CE-44A2-A344-87E4BFF7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7A7CD-A057-4502-9EEE-37E30A96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9FF43-0F9F-43B7-BFC5-2A67F63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DC6DC-0E8F-4726-9056-2B2AFF5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5A861-17AC-49CB-915F-84CC2A4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DC486-6614-4438-91CC-801FC6F3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66C39-7034-458C-8647-BF401BF3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4A68E-8A38-4A71-8BAD-8C173CE3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8CCD3-27B7-4960-AD4E-E96961C0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D27E3-EE5F-49AC-8565-C17D0361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68ADB-2C1A-45D7-9351-C39B985D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366C-E856-43DA-B042-5EDC05C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A793F-2196-4048-960F-0049DC65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E2B25-89EB-4F9F-A3F3-C3462B3A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D4B58-D88C-40CA-AEDC-C4F2BE95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E5D26-9C60-4370-90C2-0607E545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EE4BB-17C6-4152-9543-2B93A63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137A8-A82C-4496-87EE-3FBC7EB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A0040E-B55A-44C4-B888-EA4B6D5B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4E881-52DA-491F-AC1D-5C47C78B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D007F-2E57-4FB3-9015-4479007F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FF762-0F56-4DB2-87CD-A14694C7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D4AD-93D0-4047-A020-9FD88851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D07EC-54FE-495D-BE73-E5046ACE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97D9D-2A66-42C7-ADA6-B2A0A6B2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AFDC9-BADF-4E1D-85A1-18785524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A6B1D-83C0-484A-B87D-5893512E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61B65-20F7-4AAF-8837-C143D7A6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D01EE-79A9-4BC9-B4DA-B74663A8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37615-03B3-47EE-A365-0CD5CE77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34985-F8C1-42B7-B9BB-83CC751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3FF31-089A-4CF5-BD6B-B5096C42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085DB-C149-4904-A926-46D9797E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566F-A8B2-496F-B409-8D533716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0858E-CEBC-49F8-9D42-4837E577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CF1FB5-0227-4F4A-9EF7-5FBB11BC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8E9AA-E322-4FBF-8535-F29B566F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75E86-E8D0-4481-B8DF-4156D559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08378-BC61-4B0B-BAB0-FEA6EF12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2C22E-B97F-4148-AB8F-1990A1F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84014-8C03-4E6B-8E9A-E5C86054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CBDB1-A854-42E5-89DC-36FFED1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CB09C-D1B8-4B38-B4D6-82CA9792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1FDDA-EC42-4B9B-BECD-12314922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A3F6-149B-4F9D-AA20-51DDA683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5528CF-968F-4EC3-8BF6-8E900CFB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45BF5-215E-420B-BF1F-818717A0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4608D-06DA-4FE3-947F-809BEEED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CC261-CBE6-415D-9CE5-4F61D830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AC1DA-21AA-4735-8C0F-5FDE93B5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3176A-D686-4B5B-847E-7A5CC7DA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52D34-8D3E-40DB-9BFC-CF6DA92E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93BE6-4ABB-4AC9-8C2B-C234D61E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C4C1A-7A03-4991-9F0F-CCB9A6C8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7162B-D404-449B-B8F6-BE34E8CB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EA6-58CF-4AB0-8BAA-B9CC4938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7C82-2566-45FC-8F6D-92C5378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E3D19-8DD9-4B79-AA7F-03EDEA3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42962-789F-400B-8D2B-BDCEF6B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2A879-1E10-46E6-B25B-E9D42951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26C66-A321-4128-9FEE-A93C97E4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39EF5-9739-4C3E-8FCF-7DB843C1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9DE4C-175E-4D51-9BEF-434D9A0A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25299-6846-40B4-B8B0-2CAAB23F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5B362-327D-4F1A-92B6-32CF1A69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E7376-F8E5-4512-8B08-D2AB3524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E8D17-A65F-4230-AA3D-EDADDA05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8B22-3052-497B-8632-EA0B4374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84F62-FA91-4E8E-BC8A-09DA2B6A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F6121-6329-456B-AB4B-E7B17FA3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6BE2E-F425-4178-B8F3-41846F5E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20595-483A-4F6B-954C-55270713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A1F5F-9FE1-4DDB-866A-E3BB3F42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ABB37-7065-4508-A2E9-94113F6F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4EB61-EC6E-4574-9C76-06CCA9E0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BF76B-BDFE-4CA0-9B98-9F3B9ADF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F53CA-203A-4E86-B861-0214562E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83E1F-3C11-4627-9CA2-7DED7A63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74A8-169B-4123-AB83-EDA2DE31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5F16B-966A-428D-84A0-028026B5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ABF64-2B59-4022-9065-4633A9AF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93E27-EB55-4869-87A9-557FC407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8513E-AB93-499B-9F6C-D9CE8B82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EE6DF-415D-4F7E-9B6B-9A24E5F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B10786-52CA-43FB-B7AA-8F0CCE47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6FD08-580F-401B-82B5-952EC737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A8A199-8F5C-4FE3-AA8C-9F09A836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4BEEB-C64D-49AE-87F2-D2E87DCF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84CA84-D17D-4F33-BA1E-F0376815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172A-A60B-4595-BDF8-8E2FC4D3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C5E03C-D1D7-4D2C-9A4B-72FCAC57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307296-11CF-46CC-B21C-3CCB0252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14FD0D-177F-4CAF-9929-DB7D6672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92FEF0-546F-4B04-ABFA-65EFABD2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573F9-B05D-4480-BC42-7A4715AA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1B3D8-A30A-4333-B83F-3C69EC7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1F4401-1937-4C7D-9E0B-A2819CD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803E73-CBDC-4432-B8BC-513A7C7A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4E94B4-22E4-4DE5-BA8A-BD41622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A7600-3EFC-474D-A7EF-41251DA5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0114-84FB-44DC-BF11-1F9C60D9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EC92E-1ABB-405A-94B5-5D700CC6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B692C-CC13-4D2F-8ADF-4C415BFD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C97C3-C5FF-4936-A3DB-0A2DC269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FDF1F-4E1B-4A64-A44B-17C9AC9D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9D177D-6800-4043-A5DA-C11E1681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9F8FF-E66F-4184-98C5-C352E78E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AB59CC-7940-4B59-A729-4541FEF6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F93E1-FC9F-49D0-9E4F-37E43BD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50AC2-24C4-46BA-A7EF-9A759A9C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1F6D83-82EB-4E6B-BC70-E4760278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C992-7FDA-419D-8D53-BD0630BC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9F526-1DCD-4C8F-8FB0-4A3634A1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8B1B7-7D01-4A0D-9428-E0E3EBB4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F3965-CAFC-4116-B3AF-BDF13125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15D1E7-C1FC-4957-8C3C-3DA9999B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E3069-8343-4DA5-A046-E8AE9B91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D259F2-EAAB-4D36-99BF-2C0E4F92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F537BA-D4DB-461C-8656-CE0DE7B1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179059-60B3-4FA4-897C-680885FE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2D7BEF-E113-4919-9D26-579A635F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742098-2E98-45DC-899C-B8EE3AB7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306D-B70E-44AB-A1BF-6C074951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202258-4104-4082-AEF1-71DBD1C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7107C2-BCAF-46B4-884F-D4C4ED9E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F776CE-0749-4D04-9851-BB62D4D0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97F8D3-4AC2-4B7B-8996-2C06F931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5C6630-F9CC-41FC-BB6F-1A48820B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699C8-8C5A-4001-93EC-C6A7E753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06BC-3D0B-421B-A5D3-8C6525B0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EBDD-2612-4AA0-B9C6-9A240525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A80-FD91-4A1E-AF8F-F5E51118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F69D-3D63-4C6B-B0F1-7C953142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3D47-B11F-4AAC-9FF0-E22E8AC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8975-A8B8-4EB7-8CD5-4AA4999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838B-E965-494D-B979-DCDC344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87B5-9B2A-48F8-A8B1-AA96B5BB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4980-4DEC-46C1-BDDB-D3305A34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195C-F1D7-4650-948D-8CB371C5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EB36-3E0B-4584-A9FE-D3C9075B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C4547-C0F9-43B6-A2CC-BBD3CBAB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2EE2-E9AB-46A3-9605-53980CAC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C14-2E86-443A-B643-ABEEC47C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B742B-EE5F-4182-80FC-06E4257D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ED32-C00C-40FD-86E2-097F2C4D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F8C5-AC6E-4429-84D5-DC9B344D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3BDC8-1675-49A4-9C0D-AF22FC6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5031-BBCD-4C67-B5DE-9DCDF57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AA6B8-A25B-4AD3-9E6D-DA1C43FA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C6A3-2FFE-43FB-A30A-44AE9114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AC05-AE62-4C07-810B-DFBFE13C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C2E4A-1426-4C5E-AFAF-7AB97A37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F4F30-A50F-43B0-97A7-294C0C35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8BA-EB53-460A-A0CD-3A6D454D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A6D0-4D4F-4BC4-A457-47C70620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BD82D-C633-4835-A67D-BA18D955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E607C-7253-4320-B33A-8A79FBA8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35BB-99B0-413C-9CA1-5D9D114E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6A03F-F30F-4542-BBDF-32C31AC4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803A0-37A4-42CC-8006-8CFED61A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43D1D-DFFE-4848-881F-54F4097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BFDD-F27A-4413-B816-409F676E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3359-1158-48C0-873B-82039391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8E8D7-3126-4293-9974-8B8FEE42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58D-BEE6-48E3-8EA1-93F7FFB1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8F740-E17F-43B4-9B97-16E2B5B8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081CF-C0A8-4058-9197-AD5FA27C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B647F-FCC6-44BE-84AD-94BD3893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09492-DB71-4509-A2F2-7910C211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302D1-2943-4E8B-961C-D8A74257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C1625-FA61-4C24-ACC4-D952F16A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817C2-62B0-41FD-99F4-747E45D3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D7B6-A9D3-49BD-B1E5-CE41B984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EC32-642A-421F-9384-E2186CA9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793C4-DA6A-4A48-BD19-E16F36E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4F5-0446-40E0-A870-8CA27BF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7FAEF-5180-491A-B646-2BC13A1D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FC511-EAAC-4AD8-87FA-E0EBE196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F974-EB62-4D91-9EEB-4185FE21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72874-127F-4984-AF1E-5EF0D2E8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D2831-5A30-4602-AD4E-9A5A759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6A103-581D-4065-B7D4-2E9DCFCC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6D534-8105-4011-A730-9D6DC885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F104E-83CE-4FEA-93C3-565B1088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9558-43DE-40D9-A4A3-4CD6EE9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BA1B5-4DE2-47FA-A776-7F9B9027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C31-FB3D-4784-8613-687928F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7E641-5D44-447E-8B1B-B5D79C2C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51A8-5050-49A7-8BC1-B3EB5DB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C06E9-315F-4894-BD5D-1791921C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B9001-A31C-4F96-9978-3D89E3B8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E2FFA-2D89-4FD4-92D8-B24DD294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AE2EF-0E0A-4BB4-9036-CD53F760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5E5B6-7962-4ECE-A966-5C1703DF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C0918-3E0C-4BE8-8A0C-2DC0F395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CD2CE-F51D-4218-90BA-FFF02A7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7C614-0F17-487D-A0D6-8A420872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EE1-8F2B-48FC-B056-88D8057D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873AC-95BC-423D-9BAB-5853E147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2033B-223D-46DE-93A2-1C669EAE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FBC8A-5B31-470F-8CDF-C7D8EA5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817A-01F1-4105-90CA-EF2403E2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0D47-6DC8-48C9-B124-627F19B1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842CC-3C4E-457A-BC83-8E45D691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E3B71-F769-405C-BE83-F0F5DF2C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650D7-8218-40F0-818A-000E7142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67B47-63F4-4A16-BC25-5990A2E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7F43-39CD-414D-95B7-6AA24D6D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6A3B-1973-4E4D-BCD1-A78C4C3A03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86C9-0757-43B8-8581-3BC93CBB8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3AA-E5A1-4AB6-8466-BFB9C84F21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E963-9264-4D01-8FFB-6B2558C0A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9DAE-7A16-4333-A254-C10B490D12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9B5A-2EEE-4253-A964-B03D9C999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C64A-C3CA-4864-A954-0C5F20239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9B2D-6B5D-4677-B5E3-29BB0BE64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EA9E-C04B-405A-BC97-714E29D42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0BFA-8433-48B7-BF1A-646F67FB3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FA10-23BA-454C-9B84-91BC030BA7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DE1D-BFAE-4470-AE97-74762687A3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ED5-66C5-4D8E-9A20-D95058C801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7AE8-458E-4ABD-BE0E-5AB75C6DF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3007-DFE7-4D03-BE98-68CB6F9601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1260-1572-4276-9FB1-472E90FA8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A331-F374-40F1-A0AF-DCD4BBA40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0C26-5974-4270-866E-3093C1071B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68E-751A-476E-8B07-39C9E98DCC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02C9-0335-4571-B397-2C93EA5A64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050B-F162-4C18-899D-D9A76BBB5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3991-B099-4516-93E8-1951A112A8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1202-66E4-48E3-A0B0-C52E49F62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BA29-2C4F-4247-869C-028481C968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D00D-E554-4F58-9360-344F1CB8EF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4684-007F-4998-A147-EEBC66D239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1043-9E11-44FB-B391-535C6AB9E7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D8D6-4F11-418A-88EB-9F2B4B9CDF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2BA7-77CD-4F87-8446-FBE3D5A5E0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89A6-3DA5-4274-B761-7730595A4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2B4E-CAA3-41F6-9BB0-53880391FF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4E2F-4C3E-4241-94E7-FC0B4E68DF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4B69-B361-433D-B75E-48BAE54041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594C-67B6-4195-BE89-44DF85375C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CA8C-0073-4F52-A8BF-8531D1F2C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32FE-6634-48FB-A3D0-1D8464F5B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EEFE-92F9-4978-BDDC-63F24E9B7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49B1-163B-4937-BE4A-7A9C7B0744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E3C7-E1EE-4A34-BF3A-15091C2A94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5203-63ED-46AA-9DE7-951F49E2C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5259-6919-4E71-9C56-B9DA2A12C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314440" y="3147840"/>
            <a:ext cx="451512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58040" cy="5591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2050920" y="3457440"/>
            <a:ext cx="6481800" cy="476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2901960" y="6222960"/>
            <a:ext cx="222120" cy="2476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653080" y="6222960"/>
            <a:ext cx="222120" cy="2476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5494320" y="5516640"/>
            <a:ext cx="949320" cy="360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8317080" y="6208560"/>
            <a:ext cx="222120" cy="2476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7885080" y="5516640"/>
            <a:ext cx="9493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7169" descr=""/>
          <p:cNvPicPr/>
          <p:nvPr/>
        </p:nvPicPr>
        <p:blipFill>
          <a:blip r:embed="rId1"/>
          <a:stretch/>
        </p:blipFill>
        <p:spPr>
          <a:xfrm>
            <a:off x="438120" y="1890720"/>
            <a:ext cx="8267760" cy="3076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2484360" y="3701880"/>
            <a:ext cx="5975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8193" descr=""/>
          <p:cNvPicPr/>
          <p:nvPr/>
        </p:nvPicPr>
        <p:blipFill>
          <a:blip r:embed="rId1"/>
          <a:stretch/>
        </p:blipFill>
        <p:spPr>
          <a:xfrm>
            <a:off x="457200" y="1809720"/>
            <a:ext cx="8229600" cy="3238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4932360" y="4479840"/>
            <a:ext cx="431640" cy="317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7250040" y="4494240"/>
            <a:ext cx="4320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0:2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